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C1B-9AFD-4E81-96FB-6599DCF522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305-F36D-4A1B-89BB-7F0DF6A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D35-C639-4318-A4CD-81950DC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9FC-EEA9-41A0-B91C-CD6FD606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995-E315-4E9F-A325-61F83976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A63-45A2-49E9-8227-263F953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A98-A508-46F9-B2AD-78D7395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66D-1FBD-439A-A287-358D626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79E-B30F-464D-ABFF-8CDC653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584-6884-4CD1-842F-BD7EDA7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F0E-9A5A-44C0-B438-E603D29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50B-AE98-4C34-B068-C9722796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4A7-6DB7-4755-A54B-8D06E8A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27C-F3DF-4D01-A32D-1488EA25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reativecow.net/articles/okerstrom_jon/reflections/OddReflection1.jpg&amp;imgrefurl=http://library.creativecow.net/articles/okerstrom_jon/reflections.php&amp;usg=__LIoPuGCd6j_Ru6gc1IiauDTIf9I=&amp;h=420&amp;w=630&amp;sz=18&amp;hl=en&amp;start=3&amp;tbnid=MfIF9RhON5Ma2M:&amp;tbnh=91&amp;tbnw=137&amp;prev=/images%3Fq%3Dreflection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e Debrie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36640"/>
            <a:ext cx="6409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1:55:59Z</dcterms:created>
  <dc:creator>Information Services</dc:creator>
  <dc:description/>
  <dc:language>en-US</dc:language>
  <cp:lastModifiedBy>Information Services</cp:lastModifiedBy>
  <dcterms:modified xsi:type="dcterms:W3CDTF">2009-08-19T21:56:16Z</dcterms:modified>
  <cp:revision>1</cp:revision>
  <dc:subject/>
  <dc:title>Consolidate Debrief (continued)</dc:title>
</cp:coreProperties>
</file>